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3C3B6-E3F7-495F-8F66-AC21F1787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A46E9-5E54-457B-B9F6-ABAFC7AA5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88F21-7669-434A-BC0A-08EB0DFBB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3AF1E-FE7E-4F90-AD3C-5C901A4B7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471A2-6EBB-4E27-BC2C-B1FB3BE61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399A7-9B10-4226-9E4F-044F0D04F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5D2B9-9F4E-4D49-BE58-300B81A30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9493B-02E3-4A9F-9BC2-0FCDB89A1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94A10-B929-46E4-BE82-DEB30B830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5FE7C-FD36-4934-80D2-257E643A6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666BA-6612-4E9A-904B-239C49140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768B0-4F2D-4B74-9DB3-6AFFA2447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CC434-9B07-47F7-A720-A2474CD14F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6000" spc="-1" strike="noStrike">
                <a:solidFill>
                  <a:srgbClr val="000000"/>
                </a:solidFill>
                <a:latin typeface="Arial"/>
              </a:rPr>
              <a:t>Settlement Patterns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666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More than 90% of our population is within 600 km of the American border</a:t>
            </a:r>
            <a:br>
              <a:rPr sz="4000"/>
            </a:br>
            <a:br>
              <a:rPr sz="4000"/>
            </a:b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his represents less than 10% of our land area, but most of our major cities and </a:t>
            </a:r>
            <a:br>
              <a:rPr sz="4000"/>
            </a:b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productive farmland  </a:t>
            </a:r>
            <a:br>
              <a:rPr sz="4000"/>
            </a:b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(see map p.203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666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here are 2 main categories in Canada:  </a:t>
            </a:r>
            <a:r>
              <a:rPr b="1" lang="en-CA" sz="4000" spc="-1" strike="noStrike" u="sng">
                <a:solidFill>
                  <a:srgbClr val="000000"/>
                </a:solidFill>
                <a:uFillTx/>
                <a:latin typeface="Arial"/>
              </a:rPr>
              <a:t>Rural</a:t>
            </a: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CA" sz="4000" spc="-1" strike="noStrike" u="sng">
                <a:solidFill>
                  <a:srgbClr val="000000"/>
                </a:solidFill>
                <a:uFillTx/>
                <a:latin typeface="Arial"/>
              </a:rPr>
              <a:t>Urban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666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RURAL</a:t>
            </a:r>
            <a:r>
              <a:rPr b="0" lang="en-CA" sz="4000" spc="-1" strike="noStrike">
                <a:solidFill>
                  <a:srgbClr val="000000"/>
                </a:solidFill>
                <a:latin typeface="Arial"/>
              </a:rPr>
              <a:t>: most rural Canadians are located  within one of these (historical) patterns:</a:t>
            </a:r>
            <a:br>
              <a:rPr sz="4000"/>
            </a:br>
            <a:br>
              <a:rPr sz="4000"/>
            </a:br>
            <a:r>
              <a:rPr b="0" lang="en-CA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</a:t>
            </a:r>
            <a:r>
              <a:rPr b="0" lang="en-CA" sz="4000" spc="-1" strike="noStrike">
                <a:solidFill>
                  <a:srgbClr val="000000"/>
                </a:solidFill>
                <a:latin typeface="Arial"/>
              </a:rPr>
              <a:t> Long lots of Quebec</a:t>
            </a:r>
            <a:br>
              <a:rPr sz="4000"/>
            </a:br>
            <a:r>
              <a:rPr b="0" lang="en-CA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</a:t>
            </a:r>
            <a:r>
              <a:rPr b="0" lang="en-CA" sz="4000" spc="-1" strike="noStrike">
                <a:solidFill>
                  <a:srgbClr val="000000"/>
                </a:solidFill>
                <a:latin typeface="Arial"/>
              </a:rPr>
              <a:t> Concession system of Ontario</a:t>
            </a:r>
            <a:br>
              <a:rPr sz="4000"/>
            </a:br>
            <a:r>
              <a:rPr b="0" lang="en-CA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</a:t>
            </a:r>
            <a:r>
              <a:rPr b="0" lang="en-CA" sz="4000" spc="-1" strike="noStrike">
                <a:solidFill>
                  <a:srgbClr val="000000"/>
                </a:solidFill>
                <a:latin typeface="Arial"/>
              </a:rPr>
              <a:t> Section system of the Prair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666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4000" spc="-1" strike="noStrike">
                <a:solidFill>
                  <a:srgbClr val="000000"/>
                </a:solidFill>
                <a:latin typeface="Arial"/>
              </a:rPr>
              <a:t>3 Factors affect the pattern in any area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666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4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i="1" lang="en-CA" sz="4000" spc="-1" strike="noStrike">
                <a:solidFill>
                  <a:srgbClr val="000000"/>
                </a:solidFill>
                <a:latin typeface="Arial"/>
              </a:rPr>
              <a:t>What kind of resources are in the area?  (i.e.. agriculture or forestry or fishing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666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Arial"/>
              </a:rPr>
              <a:t>2. What transportation methods were available at the time of settlement? (i.e.. water</a:t>
            </a:r>
            <a:br>
              <a:rPr sz="4000"/>
            </a:br>
            <a:r>
              <a:rPr b="0" lang="en-CA" sz="4000" spc="-1" strike="noStrike">
                <a:solidFill>
                  <a:srgbClr val="000000"/>
                </a:solidFill>
                <a:latin typeface="Arial"/>
              </a:rPr>
              <a:t>     transport usually preceded roads. Was that the case in the Ottawa region? Canada</a:t>
            </a:r>
            <a:br>
              <a:rPr sz="4000"/>
            </a:br>
            <a:r>
              <a:rPr b="0" lang="en-CA" sz="4000" spc="-1" strike="noStrike">
                <a:solidFill>
                  <a:srgbClr val="000000"/>
                </a:solidFill>
                <a:latin typeface="Arial"/>
              </a:rPr>
              <a:t>     generally?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666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Arial"/>
              </a:rPr>
              <a:t>3.  What role did government policy play in the settlement? (i.e.. planning, size and shape</a:t>
            </a:r>
            <a:br>
              <a:rPr sz="4000"/>
            </a:br>
            <a:r>
              <a:rPr b="0" lang="en-CA" sz="4000" spc="-1" strike="noStrike">
                <a:solidFill>
                  <a:srgbClr val="000000"/>
                </a:solidFill>
                <a:latin typeface="Arial"/>
              </a:rPr>
              <a:t>      of lots. A set of rules is called a </a:t>
            </a: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survey system</a:t>
            </a:r>
            <a:r>
              <a:rPr b="0" lang="en-CA" sz="4000" spc="-1" strike="noStrike">
                <a:solidFill>
                  <a:srgbClr val="000000"/>
                </a:solidFill>
                <a:latin typeface="Arial"/>
              </a:rPr>
              <a:t> and different systems were used in different </a:t>
            </a:r>
            <a:br>
              <a:rPr sz="4000"/>
            </a:br>
            <a:r>
              <a:rPr b="0" lang="en-CA" sz="4000" spc="-1" strike="noStrike">
                <a:solidFill>
                  <a:srgbClr val="000000"/>
                </a:solidFill>
                <a:latin typeface="Arial"/>
              </a:rPr>
              <a:t>      parts of Canada.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666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Rural 1: Long lots of Quebec</a:t>
            </a:r>
            <a:r>
              <a:rPr b="0" lang="en-CA" sz="4000" spc="-1" strike="noStrike">
                <a:solidFill>
                  <a:srgbClr val="000000"/>
                </a:solidFill>
                <a:latin typeface="Arial"/>
              </a:rPr>
              <a:t>    (refer page 205)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666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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Settled </a:t>
            </a: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before 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railways and good roads and surveys</a:t>
            </a:r>
            <a:br>
              <a:rPr sz="3200"/>
            </a:br>
            <a:br>
              <a:rPr sz="3200"/>
            </a:br>
            <a:r>
              <a:rPr b="0" lang="en-CA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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Most important influence was the agricultural resources and river transport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666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CA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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Long thin farms were built along the St. Lawrence River; each farm had access to the river for transportation</a:t>
            </a:r>
            <a:br>
              <a:rPr sz="3200"/>
            </a:br>
            <a:br>
              <a:rPr sz="3200"/>
            </a:br>
            <a:r>
              <a:rPr b="0" lang="en-CA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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Known as long lots; when river lots were taken, a second (&amp; 3rd and 4th) were settled were settled on a road parallel to the river (see picture in text p. 20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666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Is Canada’s population evenly distributed across the country?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609480" y="210960"/>
            <a:ext cx="8001000" cy="64994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666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Rural 2:  Concession System of Southern Ontario   </a:t>
            </a:r>
            <a:br>
              <a:rPr sz="4000"/>
            </a:br>
            <a:r>
              <a:rPr b="0" lang="en-CA" sz="4000" spc="-1" strike="noStrike">
                <a:solidFill>
                  <a:srgbClr val="000000"/>
                </a:solidFill>
                <a:latin typeface="Arial"/>
              </a:rPr>
              <a:t>(refer page 206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666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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gricultural resources</a:t>
            </a:r>
            <a:br>
              <a:rPr sz="3200"/>
            </a:br>
            <a:br>
              <a:rPr sz="3200"/>
            </a:br>
            <a:r>
              <a:rPr b="0" lang="en-CA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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Settled </a:t>
            </a: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after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a survey system was in place</a:t>
            </a:r>
            <a:br>
              <a:rPr sz="3200"/>
            </a:br>
            <a:br>
              <a:rPr sz="3200"/>
            </a:br>
            <a:r>
              <a:rPr b="0" lang="en-CA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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Roads and later railways, were available, so access to rivers and lakes was less important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666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CA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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 variety of concession systems were used. Roads were typically 1 mile (sometimes 2 km) and farms were 40-80 hectares in size</a:t>
            </a:r>
            <a:br>
              <a:rPr sz="3200"/>
            </a:br>
            <a:br>
              <a:rPr sz="3200"/>
            </a:br>
            <a:r>
              <a:rPr b="0" lang="en-CA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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Groupings of concession blocks were called townships and groups of townships were called coun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914400" y="58680"/>
            <a:ext cx="7391520" cy="67993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666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Rural 3: Section System of the Southern Prairies</a:t>
            </a:r>
            <a:r>
              <a:rPr b="0" lang="en-CA" sz="40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4000"/>
            </a:br>
            <a:r>
              <a:rPr b="0" lang="en-CA" sz="4000" spc="-1" strike="noStrike">
                <a:solidFill>
                  <a:srgbClr val="000000"/>
                </a:solidFill>
                <a:latin typeface="Arial"/>
              </a:rPr>
              <a:t>(refer page 207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666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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Surveyed before major settlement occurred using the </a:t>
            </a: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“Section System”</a:t>
            </a:r>
            <a:br>
              <a:rPr sz="3200"/>
            </a:br>
            <a:br>
              <a:rPr sz="3200"/>
            </a:b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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Simple System.  Land was divided into blocks 9.6km</a:t>
            </a:r>
            <a:r>
              <a:rPr b="0" lang="en-CA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by 9.6km</a:t>
            </a:r>
            <a:r>
              <a:rPr b="0" lang="en-CA" sz="3200" spc="-1" strike="noStrike" baseline="30000">
                <a:solidFill>
                  <a:srgbClr val="000000"/>
                </a:solidFill>
                <a:latin typeface="Arial"/>
              </a:rPr>
              <a:t>2  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(94 km</a:t>
            </a:r>
            <a:r>
              <a:rPr b="0" lang="en-CA" sz="32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in area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666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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Each block is divided into 36 sections, each of which is divided into 4 lots called quarter-sections (64 ha in size)</a:t>
            </a:r>
            <a:br>
              <a:rPr sz="3200"/>
            </a:br>
            <a:br>
              <a:rPr sz="3200"/>
            </a:b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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Due to low rainfall levels, farms needed to be made bigger in order to survive.  This gave rise to </a:t>
            </a: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“farm consolidation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150840" y="888840"/>
            <a:ext cx="8840880" cy="49784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1371600" y="282600"/>
            <a:ext cx="6553080" cy="62704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666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000000"/>
                </a:solidFill>
                <a:latin typeface="Arial"/>
              </a:rPr>
              <a:t>How would you describe the distributio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666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URBAN</a:t>
            </a:r>
            <a:r>
              <a:rPr b="0" lang="en-CA" sz="4000" spc="-1" strike="noStrike">
                <a:solidFill>
                  <a:srgbClr val="000000"/>
                </a:solidFill>
                <a:latin typeface="Arial"/>
              </a:rPr>
              <a:t>: most Canadians (82%) lived in a rural setting in 1867.  Today approximately 80% of the population lives in cities and town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666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1600200" y="1212840"/>
            <a:ext cx="5867280" cy="45496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666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4000" spc="-1" strike="noStrike">
                <a:solidFill>
                  <a:srgbClr val="000000"/>
                </a:solidFill>
                <a:latin typeface="Arial"/>
              </a:rPr>
              <a:t>An urban center can grow for a number of different reasons such as:</a:t>
            </a:r>
            <a:br>
              <a:rPr sz="4000"/>
            </a:br>
            <a:r>
              <a:rPr b="1" i="1" lang="en-CA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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Manufacturing</a:t>
            </a:r>
            <a:br>
              <a:rPr sz="3200"/>
            </a:b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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A Transportation Hub</a:t>
            </a:r>
            <a:br>
              <a:rPr sz="3200"/>
            </a:b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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A Resource Base</a:t>
            </a:r>
            <a:br>
              <a:rPr sz="3200"/>
            </a:b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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A Service Cen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666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ny cities’ existence can depend on one urban function.  An urban center that grows for a few different reasons is called a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“diversified urban center”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666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000000"/>
                </a:solidFill>
                <a:latin typeface="Arial"/>
              </a:rPr>
              <a:t>How would you describe the distributio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1557360" y="1666800"/>
            <a:ext cx="5529240" cy="48103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666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Why is our population distributed the way it is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666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Settlement Patterns: (p. 201) the arrangement of where people live in a country and the factors that influence the arrangement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666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i="1" lang="en-CA" sz="4400" spc="-1" strike="noStrike" u="sng">
                <a:solidFill>
                  <a:srgbClr val="000000"/>
                </a:solidFill>
                <a:uFillTx/>
                <a:latin typeface="Arial"/>
              </a:rPr>
              <a:t>Dispersed</a:t>
            </a: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-  found in areas that have a strong agricultural base; spread out on farms</a:t>
            </a:r>
            <a:br>
              <a:rPr sz="4000"/>
            </a:br>
            <a:br>
              <a:rPr sz="4000"/>
            </a:br>
            <a:r>
              <a:rPr b="1" i="1" lang="en-CA" sz="4400" spc="-1" strike="noStrike" u="sng">
                <a:solidFill>
                  <a:srgbClr val="000000"/>
                </a:solidFill>
                <a:uFillTx/>
                <a:latin typeface="Arial"/>
              </a:rPr>
              <a:t>Concentrated</a:t>
            </a: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- found where resources are focused in small areas; tow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Linear - (a type of concentrated pattern) found along lines </a:t>
            </a:r>
            <a:br>
              <a:rPr sz="4000"/>
            </a:b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(e.g. highway, river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457200" y="2908440"/>
            <a:ext cx="8229600" cy="36446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666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Note: Population Density is different. It is</a:t>
            </a:r>
            <a:br>
              <a:rPr sz="4000"/>
            </a:br>
            <a:br>
              <a:rPr sz="2000"/>
            </a:br>
            <a:r>
              <a:rPr b="1" lang="en-CA" sz="4000" spc="-1" strike="noStrike" u="sng">
                <a:solidFill>
                  <a:srgbClr val="000000"/>
                </a:solidFill>
                <a:uFillTx/>
                <a:latin typeface="Arial"/>
              </a:rPr>
              <a:t>Population</a:t>
            </a:r>
            <a:br>
              <a:rPr sz="4000"/>
            </a:b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Area</a:t>
            </a:r>
            <a:br>
              <a:rPr sz="4000"/>
            </a:br>
            <a:br>
              <a:rPr sz="2000"/>
            </a:b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or the number of people per km²</a:t>
            </a:r>
            <a:br>
              <a:rPr sz="4000"/>
            </a:b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9T16:27:10Z</dcterms:created>
  <dc:creator>Customer</dc:creator>
  <dc:description/>
  <dc:language>en-US</dc:language>
  <cp:lastModifiedBy>OCDSB User</cp:lastModifiedBy>
  <dcterms:modified xsi:type="dcterms:W3CDTF">2011-04-20T19:14:25Z</dcterms:modified>
  <cp:revision>18</cp:revision>
  <dc:subject/>
  <dc:title>Settlement Patterns </dc:title>
</cp:coreProperties>
</file>